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B2C0-D236-46D3-84D1-B1ABE3FF8F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C74A-6404-4C68-B413-BFD6FB9560A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ьфит натрия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0ED1-52CA-4CDF-958A-5B122C5BBF3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рамор – это соль кальция и кислотного ост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019C-9DCC-4730-98F5-527BBE3824E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кислороде как о простом веществе говор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веществ жив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атмосферы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молекул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оксида меди образованы атомами кислорода и м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FD8D-105E-451B-BCC6-ED5424E08D4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остым веществам относится каждое вещество ря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азот, хл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юминий, водород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 цинка, хлор, 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, йод, сах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C0F0-009E-4097-BC97-DC5BB4E640F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зон и метан являются соответствен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м элементом и прост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веществом и смесью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и сложн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 веществом и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0A85-7C7E-4267-97EA-5A672361926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ложным веществам относится каждое из веществ, указанных в ря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Mg, 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5F39-8C85-47F2-A4BC-091F0942505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мфотерным оксидам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4E6B-E557-4B66-B2A6-37FE5D4B1CD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B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1B2F-FAC0-47AF-AC3A-069AB7244C9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сид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 относится к оксид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леобразующ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CD2B-ACDB-4006-93DA-B83048FF4CF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еречисленных веществ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Ag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a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sOH, Fe(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число оснований ра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03A5-9962-46E7-8C8E-CDF13D4912C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A5C-AA9A-4324-9B98-0E707DFF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F57-ACEE-4373-802B-0618CF9F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983-3477-4386-8676-A910D901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615-BA65-43C2-9B32-7355A08B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A700-5AB3-4635-8948-397ED56D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27EE-1C33-4211-B907-917D77B1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50F9-FE31-4B3A-BA41-D2E568D3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96C1-8451-4EAD-846B-8BAE043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BB99-BCC0-4742-9560-6669770F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3778-B3F7-4B65-851E-3058D749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1553-C12C-4224-A777-CA12019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B71-A931-4E95-8D6F-D58BE5D6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A11F-C418-4965-B6C5-B5C0E510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271-A3D9-4C92-A9F6-2465ED1D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EAC5-7EE5-4487-8C7A-6B20FF6D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5366-5BB8-4255-ADD0-884AC25C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24F5-034D-4F42-9AE7-2AC09B21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197-B95D-4F71-BA80-CC5DA64A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52F-CEA7-45B0-9DE9-BC3046C0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F1B-1BDB-4EEC-B004-EF521F1B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786-5AF6-4605-B860-453F8A24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BE8-891D-40E7-A5D0-A7794D8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962-B44B-4810-8E68-231EEC7A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F41-364B-4A38-A7B0-B8D84DA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EDA5-2A36-42C0-96CD-CE80BC0F31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85D-5449-4B6F-85C2-031982E04D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ульфит натрия это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рамор – это соль кальция и кислотного остат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 кислороде как о простом веществе говор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веществ живой клет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атмосферы Зем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молекул в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екулы оксида меди образованы атомами кислорода и мед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простым веществам относится каждое вещество ряда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а, азот, хл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юминий, водород, се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сид цинка, хлор, в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оводород, йод, саха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зон и метан являются соответствен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м элементом и прост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веществом и смесью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и сложн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ым веществом и химическим элемент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ложным веществам относится каждое из веществ, указанных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Mg, H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P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амфотерным оксидам относ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олям относится каждое из веществ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u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(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, Li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a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ксид фосфора (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) относится к оксида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слот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леобразующи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Среди перечисленных веществ   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, Ag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Ba(OH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sOH, Fe(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uOH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  число оснований рав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19:36Z</dcterms:created>
  <dc:creator>Лариса</dc:creator>
  <dc:description/>
  <dc:language>en-US</dc:language>
  <cp:lastModifiedBy>LEGION</cp:lastModifiedBy>
  <dcterms:modified xsi:type="dcterms:W3CDTF">2015-05-01T11:12:09Z</dcterms:modified>
  <cp:revision>5</cp:revision>
  <dc:subject/>
  <dc:title>Простые и сложные вещества. Основные классы неорганических веществ. Номенклатура соединений </dc:title>
</cp:coreProperties>
</file>